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AC2B-D9A2-427D-A95E-BE1F8ACA9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AEE5-5CD5-4E23-8771-2380FBF1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5705-821F-4ED8-8005-CDBAB6BC8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FD70-310D-43F0-883C-88A7997FE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F0B9-8F06-47D7-B2E1-D947622F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D78E-F320-404E-B43C-ABC8099B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2F9F-BD08-4BCA-B3D7-6FFCD521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921B-026E-4D65-94AC-C6B994365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C0C7-E9BC-4C87-87D0-B597E099C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6B07-47E6-45AE-BFEE-287EBBB1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F032-9558-423C-8451-688F45A5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0E0E-A2BE-4050-9F18-614CD1EB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0735-AA22-48DB-A981-0839F0F0E6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L ABOUT U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Sandra Coalter Leiggi.bmp"/>
          <p:cNvPicPr/>
          <p:nvPr/>
        </p:nvPicPr>
        <p:blipFill>
          <a:blip r:embed="rId1"/>
          <a:stretch/>
        </p:blipFill>
        <p:spPr>
          <a:xfrm>
            <a:off x="2895480" y="2784600"/>
            <a:ext cx="3429000" cy="26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839160" y="2209680"/>
            <a:ext cx="83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µ 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1752480" y="21337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18.2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1909800" y="251460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2898360" y="2209680"/>
            <a:ext cx="4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UR MEA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D MEAN ABSOLUTE DEV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8"/>
          <p:cNvSpPr/>
          <p:nvPr/>
        </p:nvSpPr>
        <p:spPr>
          <a:xfrm>
            <a:off x="3276720" y="22860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1 in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0"/>
          <p:cNvSpPr/>
          <p:nvPr/>
        </p:nvSpPr>
        <p:spPr>
          <a:xfrm>
            <a:off x="838080" y="35053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=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1828800" y="35812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WE ARE NOW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251825886ymHJzc_th.jpg"/>
          <p:cNvPicPr/>
          <p:nvPr/>
        </p:nvPicPr>
        <p:blipFill>
          <a:blip r:embed="rId1"/>
          <a:stretch/>
        </p:blipFill>
        <p:spPr>
          <a:xfrm>
            <a:off x="1219320" y="3809880"/>
            <a:ext cx="3485880" cy="2579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251825917asoeMx_th.jpg"/>
          <p:cNvPicPr/>
          <p:nvPr/>
        </p:nvPicPr>
        <p:blipFill>
          <a:blip r:embed="rId2"/>
          <a:stretch/>
        </p:blipFill>
        <p:spPr>
          <a:xfrm>
            <a:off x="4724280" y="465120"/>
            <a:ext cx="3429000" cy="22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3124080" y="0"/>
          <a:ext cx="3048120" cy="66754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IGHT (pound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l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a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izabe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nna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an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b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yl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v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il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sm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bb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839160" y="2209680"/>
            <a:ext cx="83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µ 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1752480" y="2133720"/>
            <a:ext cx="101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168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1909800" y="251460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2822400" y="2209680"/>
            <a:ext cx="4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UR MEAN &amp; STANDARD DEV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8"/>
          <p:cNvSpPr/>
          <p:nvPr/>
        </p:nvSpPr>
        <p:spPr>
          <a:xfrm>
            <a:off x="3276720" y="22860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5.1 lb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838080" y="35053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=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11"/>
          <p:cNvSpPr/>
          <p:nvPr/>
        </p:nvSpPr>
        <p:spPr>
          <a:xfrm>
            <a:off x="1828800" y="35812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1.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124080" y="0"/>
          <a:ext cx="3048120" cy="6761160"/>
        </p:xfrm>
        <a:graphic>
          <a:graphicData uri="http://schemas.openxmlformats.org/drawingml/2006/table">
            <a:tbl>
              <a:tblPr/>
              <a:tblGrid>
                <a:gridCol w="1016280"/>
                <a:gridCol w="1015920"/>
                <a:gridCol w="10159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EIGHT (pound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BS 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X</a:t>
                      </a:r>
                      <a:r>
                        <a:rPr b="1" i="1" lang="en-US" sz="12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i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- 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l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a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izabe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nna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an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b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yl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v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il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sm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bb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9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839160" y="2209680"/>
            <a:ext cx="83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µ 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1752480" y="21337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139.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1909800" y="251460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2898360" y="2209680"/>
            <a:ext cx="4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UR MEA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D MEAN ABSOLUTE DEV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3276720" y="22860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.7 lb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838080" y="35053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=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1"/>
          <p:cNvSpPr/>
          <p:nvPr/>
        </p:nvSpPr>
        <p:spPr>
          <a:xfrm>
            <a:off x="1828800" y="35812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.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3124080" y="0"/>
          <a:ext cx="3048120" cy="66754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EIGHT (inch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l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a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izabe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nna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an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b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yl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v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il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sm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bb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839160" y="2209680"/>
            <a:ext cx="83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µ 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1752480" y="2133720"/>
            <a:ext cx="101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96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1909800" y="251460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2822400" y="2209680"/>
            <a:ext cx="4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UR MEAN &amp; STANDARD DEV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8"/>
          <p:cNvSpPr/>
          <p:nvPr/>
        </p:nvSpPr>
        <p:spPr>
          <a:xfrm>
            <a:off x="3276720" y="22860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0.4 in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10"/>
          <p:cNvSpPr/>
          <p:nvPr/>
        </p:nvSpPr>
        <p:spPr>
          <a:xfrm>
            <a:off x="838080" y="35053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=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11"/>
          <p:cNvSpPr/>
          <p:nvPr/>
        </p:nvSpPr>
        <p:spPr>
          <a:xfrm>
            <a:off x="1828800" y="35812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3124080" y="0"/>
          <a:ext cx="3048120" cy="6761160"/>
        </p:xfrm>
        <a:graphic>
          <a:graphicData uri="http://schemas.openxmlformats.org/drawingml/2006/table">
            <a:tbl>
              <a:tblPr/>
              <a:tblGrid>
                <a:gridCol w="1016280"/>
                <a:gridCol w="1015920"/>
                <a:gridCol w="101592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EIGHT (inch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BS(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X</a:t>
                      </a:r>
                      <a:r>
                        <a:rPr b="1" i="1" lang="en-US" sz="12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i 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 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l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a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izabe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nna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an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b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yl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v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il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sm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bb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839160" y="2209680"/>
            <a:ext cx="83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µ 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1905120" y="21337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5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1909800" y="251460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2898360" y="2209680"/>
            <a:ext cx="4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UR MEA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D MEAN ABSOLUTE DEV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8"/>
          <p:cNvSpPr/>
          <p:nvPr/>
        </p:nvSpPr>
        <p:spPr>
          <a:xfrm>
            <a:off x="3276720" y="22860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7 in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838080" y="35053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=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11"/>
          <p:cNvSpPr/>
          <p:nvPr/>
        </p:nvSpPr>
        <p:spPr>
          <a:xfrm>
            <a:off x="1828800" y="35812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HAVE ARRIVED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nursery3.jpg"/>
          <p:cNvPicPr/>
          <p:nvPr/>
        </p:nvPicPr>
        <p:blipFill>
          <a:blip r:embed="rId1"/>
          <a:stretch/>
        </p:blipFill>
        <p:spPr>
          <a:xfrm>
            <a:off x="2057400" y="3352680"/>
            <a:ext cx="47149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NAME IS AB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648720" y="1676520"/>
            <a:ext cx="8120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en I was born, I was about ½ standard deviation over the classes mean for weight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ut I was almost 1 standard deviation below the classes mean for lengt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w that I am 12 years old, I am a little below the classes mean for weight, but I am 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ttle over the classes mean for heigh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447920" y="380880"/>
          <a:ext cx="6095880" cy="630396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Y ARRIVAL WEIGH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U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l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lbs. 4 oz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a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lb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lbs. 1 oz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lbs. 4 oz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izabe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lbs. 10 oz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nna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lbs. 11 oz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an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lb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b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lbs. 3 oz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yl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lbs. 7 oz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lbs. 3 oz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v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lbs. 6 oz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il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lbs. 10 oz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sm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lbs. 4 oz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lbs. 14 oz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bb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lbs. 5 oz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lbs. 7 oz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839160" y="2209680"/>
            <a:ext cx="83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µ 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3"/>
          <p:cNvSpPr/>
          <p:nvPr/>
        </p:nvSpPr>
        <p:spPr>
          <a:xfrm>
            <a:off x="1752480" y="2133720"/>
            <a:ext cx="101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167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1909800" y="251460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822400" y="2209680"/>
            <a:ext cx="4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UR MEAN &amp; STANDARD DEV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3276720" y="22860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4.6 ounc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0"/>
          <p:cNvSpPr/>
          <p:nvPr/>
        </p:nvSpPr>
        <p:spPr>
          <a:xfrm>
            <a:off x="838080" y="35053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=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1"/>
          <p:cNvSpPr/>
          <p:nvPr/>
        </p:nvSpPr>
        <p:spPr>
          <a:xfrm>
            <a:off x="1828800" y="35812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3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371600" y="0"/>
          <a:ext cx="4572000" cy="66754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UNCES  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X</a:t>
                      </a:r>
                      <a:r>
                        <a:rPr b="1" i="1" lang="en-US" sz="12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i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BS 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X</a:t>
                      </a:r>
                      <a:r>
                        <a:rPr b="1" i="1" lang="en-US" sz="12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i 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- 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l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a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izabe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nna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an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b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yl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v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il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sm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bb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7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839160" y="2209680"/>
            <a:ext cx="83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µ 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1752480" y="21337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177.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909800" y="251460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2898360" y="2209680"/>
            <a:ext cx="4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UR MEA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D MEAN ABSOLUTE DEV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3276720" y="22860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1.1ounc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838080" y="35053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=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1"/>
          <p:cNvSpPr/>
          <p:nvPr/>
        </p:nvSpPr>
        <p:spPr>
          <a:xfrm>
            <a:off x="1828800" y="35812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.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124080" y="0"/>
          <a:ext cx="3048120" cy="667548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NGTH (inch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l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a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izabe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nna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an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b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yl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v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il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sm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bb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839160" y="2209680"/>
            <a:ext cx="83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µ 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1752480" y="2133720"/>
            <a:ext cx="101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32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1909800" y="2514600"/>
            <a:ext cx="59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2822400" y="2209680"/>
            <a:ext cx="4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UR MEAN &amp; STANDARD DEV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8"/>
          <p:cNvSpPr/>
          <p:nvPr/>
        </p:nvSpPr>
        <p:spPr>
          <a:xfrm>
            <a:off x="3276720" y="228600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.375 in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0"/>
          <p:cNvSpPr/>
          <p:nvPr/>
        </p:nvSpPr>
        <p:spPr>
          <a:xfrm>
            <a:off x="838080" y="35053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=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11"/>
          <p:cNvSpPr/>
          <p:nvPr/>
        </p:nvSpPr>
        <p:spPr>
          <a:xfrm>
            <a:off x="1828800" y="35812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1371600" y="0"/>
          <a:ext cx="4572000" cy="667548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NGTH 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X</a:t>
                      </a:r>
                      <a:r>
                        <a:rPr b="1" i="1" lang="en-US" sz="12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i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BS 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X</a:t>
                      </a:r>
                      <a:r>
                        <a:rPr b="1" i="1" lang="en-US" sz="1200" spc="-1" strike="noStrike" baseline="-25000">
                          <a:solidFill>
                            <a:srgbClr val="ffffff"/>
                          </a:solidFill>
                          <a:latin typeface="Calibri"/>
                        </a:rPr>
                        <a:t>i </a:t>
                      </a:r>
                      <a:r>
                        <a:rPr b="1" i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- 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l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a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3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8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izabe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8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nna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an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8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b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yl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v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il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sm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8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bb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8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22:13:24Z</dcterms:created>
  <dc:creator>ECPS-User</dc:creator>
  <dc:description/>
  <dc:language>en-US</dc:language>
  <cp:lastModifiedBy>Sharon Chancey</cp:lastModifiedBy>
  <dcterms:modified xsi:type="dcterms:W3CDTF">2010-10-19T00:42:26Z</dcterms:modified>
  <cp:revision>17</cp:revision>
  <dc:subject/>
  <dc:title>ALL ABOUT US!</dc:title>
</cp:coreProperties>
</file>